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8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7.wmf" ContentType="image/x-wmf"/>
  <Override PartName="/ppt/media/image21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5.wmf" ContentType="image/x-wmf"/>
  <Override PartName="/ppt/media/image1.jpeg" ContentType="image/jpeg"/>
  <Override PartName="/ppt/media/image5.jpeg" ContentType="image/jpeg"/>
  <Override PartName="/ppt/media/image18.wmf" ContentType="image/x-wmf"/>
  <Override PartName="/ppt/media/image6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919913" cy="9205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0"/>
            <a:ext cx="6919200" cy="920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973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dt" idx="16"/>
          </p:nvPr>
        </p:nvSpPr>
        <p:spPr>
          <a:xfrm>
            <a:off x="3919320" y="-360"/>
            <a:ext cx="29970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Img"/>
          </p:nvPr>
        </p:nvSpPr>
        <p:spPr>
          <a:xfrm>
            <a:off x="1158480" y="690120"/>
            <a:ext cx="4600440" cy="345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ftr" idx="17"/>
          </p:nvPr>
        </p:nvSpPr>
        <p:spPr>
          <a:xfrm>
            <a:off x="0" y="8741880"/>
            <a:ext cx="29973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 type="sldNum" idx="18"/>
          </p:nvPr>
        </p:nvSpPr>
        <p:spPr>
          <a:xfrm>
            <a:off x="3919320" y="8741880"/>
            <a:ext cx="29970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EFBAC-19F3-4DB0-866D-6F7F08DC85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0440" cy="34513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919680" y="8742240"/>
            <a:ext cx="2997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661D3-D4B3-4275-B700-B37F46B0B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4397-FC64-4980-8E8B-AC5764FC4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EA64-3DFA-4DB1-9831-935213991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83BC-EC7D-442B-BF30-19208F0A0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DDAD-B782-4150-AFC7-B4D86D054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452B3-014A-4EA6-8C65-A52DEE663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FE3F6-46AB-485E-BA23-FB857181B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6B45C-3222-465D-9694-5097D1C16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8F6B9-8BDA-4292-83D3-C84D133F0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AF3DD-B669-4FEB-A51A-8777E1DDD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00C5A-0B7D-4EB4-BE97-CA6491EE2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17700-CD3D-4077-AB34-D7404CE5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D936-8B75-43D0-9896-3EDB9C57E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3E3DD-DC6F-4DF7-AB93-4FE30B5A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5ED39-F98F-4C04-9346-A41072D2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97DAF-E6A2-4190-A5A8-D7AB84A6E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BA4A4-01AC-4A4B-A945-68246DFEA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BEC38-4CE3-4377-8B15-7FF198E5A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6ECB83-F532-4D52-BF2F-755C3D69B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8839FA-AD62-4AC9-A1F3-822E5DB8A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7A8E51-3147-4641-B9D2-DA30F13AE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2C788A-3781-4568-82C1-0AEE7AE3E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17CC3A-6EA3-4586-96E5-C745DACE8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ACB7-F4F9-408C-9CE7-38E09DFC3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410AA7-A256-4EEE-919F-FACBFFBD8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3FB361-E26C-422A-8E59-E35B2D7E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1A179C-00B3-4DE5-88E7-6DA6E2B6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AA4729-5AD0-4421-9204-5EBDDBBC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560BF9-336C-4399-8919-A86C79456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FE9F15-AAE9-46CB-89C8-6F36EAE6C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E596BD-E56C-49A0-B13C-8F34E8A32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BC724-FCA8-4DCF-B51C-733E7F25D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D2F78-1EAF-423E-A4CF-0E90BB150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DB436-930C-4A8F-B7C3-733E5767C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6F0C-7C86-4612-9354-10FB3F514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EF984-08EC-4DDB-A310-C0F23A8D8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77C64-26D3-46E2-AA1A-7371C6C7C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A2CD5-DD6A-4A3B-889E-D88C7E0EF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4CB0E-6562-40DB-931C-EDAA7F4A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67B28-18A4-449E-8FDF-A085B9C9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A3DFC-1EE8-4F11-9C41-3B3CF533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C2F86-B5EA-4154-8C46-B35862571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40B59-4E28-4890-B300-7B62773C3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869B8-7F23-4ECE-9B65-CA9C69631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74C80-1E54-43AA-A8DF-E2F4F6025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38A8-EB3E-44D0-94F1-0DC8558A1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93442-FDC5-42F2-BCA8-1D748FE89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08CDB-32B8-4B17-9511-A94B2BFEC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E1D3B-8304-4694-A482-997F6D8D5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A48C6-BCB3-4EAB-ABBB-CA5065A5E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1FB11-98FE-4534-9A7D-F945DA1C1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D1076-ED91-49AE-8B14-28F4E101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E9BBEC-28E8-4F1A-AEB3-2FEEE8D7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E5B23-2D05-408F-A2E1-744FFF04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CDC14-FA5F-4C5B-9243-D6A8D3CE2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6C27B-E68B-4ABF-8E65-BD7AAD86D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62A4-4E19-45F7-B26C-A4CB2190C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44A93-4058-4805-8AE8-363DEAE99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680D-363C-46EC-8E3E-73149DF5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2B68-813A-4235-9CC8-7CCE5B2C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2C8C-14FD-469B-BD22-542B11A4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9D115-980E-4A79-9BEB-71FAA5DBAE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EA9E3-E437-4979-B262-C1CB2C80D8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2C23F-AD36-4251-9736-978C884432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25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62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4D555-BB82-4C14-A811-95D846D81F0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06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43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F845F-8419-40F5-A6E8-5B3DA822F03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190512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04760" y="2759040"/>
            <a:ext cx="5181480" cy="36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Managing bigeye &amp; yellowfin tuna in the WCPO: </a:t>
            </a:r>
            <a:br>
              <a:rPr sz="6000"/>
            </a:b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the Hawaii perspective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DA54F3-93D0-4DE3-8636-092780159BB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345960" y="233280"/>
            <a:ext cx="8088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AWAII PELAGIC FISHERIES AS PERCENTAGE OF TOTAL PACIFIC OCEAN BIGEYE TUNA CATCH (2004)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763120" cy="37339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615960" y="2176560"/>
            <a:ext cx="17064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THER 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7.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019920" y="3333600"/>
            <a:ext cx="26668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AWAII LONGLINE FISH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3%(4% of WCP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5191200" y="3984480"/>
            <a:ext cx="1706400" cy="3621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166840" y="2682720"/>
            <a:ext cx="620640" cy="3621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5562720"/>
            <a:ext cx="861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*WPFRMC. 2006. Amendment 14 to the Fishery Management Plan for the Pelagic Fisheries of the Western Pacific Region.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AB6F4-5B40-4213-A827-1E0C00B96F2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304920" y="304920"/>
            <a:ext cx="8610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AWAII LONGLINE FISHERY % OF TOTAL NO. OF LONGLINE VESSELS OPERATING IN THE WESTERN AND CENTRAL PACIFIC FISHERIES CONVENTION AREA (2004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152280" y="2286000"/>
            <a:ext cx="8763120" cy="3200400"/>
            <a:chOff x="152280" y="2286000"/>
            <a:chExt cx="8763120" cy="3200400"/>
          </a:xfrm>
        </p:grpSpPr>
        <p:pic>
          <p:nvPicPr>
            <p:cNvPr id="326" name="" descr=""/>
            <p:cNvPicPr/>
            <p:nvPr/>
          </p:nvPicPr>
          <p:blipFill>
            <a:blip r:embed="rId1"/>
            <a:stretch/>
          </p:blipFill>
          <p:spPr>
            <a:xfrm>
              <a:off x="152280" y="2286000"/>
              <a:ext cx="876312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539640" y="2584440"/>
              <a:ext cx="1706760" cy="11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OTHER N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97.3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665760" y="3576600"/>
              <a:ext cx="1706760" cy="147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HAWAII LONGLINE FISHE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2.7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5114520" y="4133520"/>
              <a:ext cx="1706760" cy="3099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90880" y="3017880"/>
              <a:ext cx="620640" cy="3099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228600" y="5486400"/>
            <a:ext cx="861048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Williams, P. and C. Reid. 2005. Overview of tuna fisheries in the western and central Pacific Ocean, including economic conditions – 2004. Meeting of the Scientific Committee of the Western and Central Pacific Fisheries Commission, WCPFC-SC-1, Noumea, New Caledonia, 8-19 August 2005. GN WP-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WPRFMC. 2005. The Pelagic Fisheries of the Western Pacific Region Annual Report 200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BA29B-BB52-45A7-A07F-AC349C4D3FF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7934040" cy="47592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3870360" y="341280"/>
            <a:ext cx="374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152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ntribution of Hawaii Longline Fishery to the Total Observed Effort (32.22 million hooks) in the Western and Central Pacific between 2001 and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C857B-F5EC-4AF6-A7F1-203334E8F29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shing effort north and south of Hawa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rcRect l="9775" t="4392" r="13673" b="24241"/>
          <a:stretch/>
        </p:blipFill>
        <p:spPr>
          <a:xfrm>
            <a:off x="1905120" y="1752480"/>
            <a:ext cx="5562360" cy="495324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2540160" y="6703920"/>
            <a:ext cx="4689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728800" y="300816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C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716440" y="48006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1FB1-844E-4701-944B-2A58E6B466B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CPO yellowfin and bigeye size frequency by gear type. Source: SPC-OF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543800" cy="4797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AC22-9A6C-4BAC-B103-FE5CE966C6A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76320" y="925560"/>
            <a:ext cx="2438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long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hery big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a catch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. Note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ch is pre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inantly juven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ub-adult fish, especially in Region 4. Sour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C-O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2971800" y="762120"/>
          <a:ext cx="5886360" cy="2895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762120"/>
                    <a:ext cx="588636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2971800" y="3951360"/>
          <a:ext cx="5943600" cy="2657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3951360"/>
                    <a:ext cx="5943600" cy="26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 flipH="1">
            <a:off x="4209840" y="4537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873680" y="434340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860520" y="43434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597800" y="455436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4819320" y="14889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483160" y="129528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36840" y="12952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674120" y="15066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443640" y="1981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946120" y="169056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40080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28560" y="42814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B380-97B4-4256-87D1-283A167E615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longl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hery Yellowf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a catch 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. Sourc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C-O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2895480" y="3444840"/>
          <a:ext cx="5359680" cy="272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444840"/>
                    <a:ext cx="535968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"/>
          <p:cNvSpPr/>
          <p:nvPr/>
        </p:nvSpPr>
        <p:spPr>
          <a:xfrm flipV="1">
            <a:off x="5867280" y="863640"/>
            <a:ext cx="0" cy="17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2819520" y="457200"/>
          <a:ext cx="5419440" cy="2712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457200"/>
                    <a:ext cx="5419440" cy="27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"/>
          <p:cNvSpPr/>
          <p:nvPr/>
        </p:nvSpPr>
        <p:spPr>
          <a:xfrm flipV="1">
            <a:off x="5943600" y="939600"/>
            <a:ext cx="0" cy="17269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5952960" y="3867120"/>
            <a:ext cx="0" cy="17272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396216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648320" y="852480"/>
            <a:ext cx="107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631920" y="8380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69200" y="10396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01992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869800" y="36576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3733560" y="4100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886200"/>
            <a:ext cx="107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708240" y="38862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445520" y="40878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178680" y="1295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028560" y="10666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CAA2-E96E-4E9F-8C60-FDC05213F74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723888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ok size/type does not show much variation in size selection. Source: Kim et al (2006) WCPFC-SC2-2006/EB WP-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rcRect l="0" t="1407" r="0" b="0"/>
          <a:stretch/>
        </p:blipFill>
        <p:spPr>
          <a:xfrm>
            <a:off x="1905120" y="1295280"/>
            <a:ext cx="5867280" cy="534348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609480" y="1219320"/>
            <a:ext cx="770040" cy="175248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3"/>
          <a:stretch/>
        </p:blipFill>
        <p:spPr>
          <a:xfrm>
            <a:off x="533520" y="2917800"/>
            <a:ext cx="992160" cy="188280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4"/>
          <a:stretch/>
        </p:blipFill>
        <p:spPr>
          <a:xfrm>
            <a:off x="609480" y="4876920"/>
            <a:ext cx="962280" cy="190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F7DC-7575-45AD-AAF4-9BC0426543D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tial Longline Management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size: how small? Hawaii fleet average size = 108-114 cm bigey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ly high survival of properly handled released big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ch quota: Hawaii = 5000 mt?, Am Samoa-Guam-CNMI 2000 mt each? Time limits on achieving 2000 mt? (Other major US longline fishery in Am Samoa currently catch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≈ 200 mt bigeye annual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d season: how long, and wh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et set limits? Limits on hooks per set? Vessel day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 for pre-existing management measures: limited entry, area closures around MHI, NWHI and Am. Samoa, bycatch limits, e.g. turtle cap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A6F8-9037-4E68-82C4-0E7226F51AB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CPO catches of bigeye tuna. Dashed line represent MSY from 2006 stock assessment (Source SPC-OF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914400" y="1677960"/>
            <a:ext cx="7467480" cy="4494240"/>
            <a:chOff x="914400" y="1677960"/>
            <a:chExt cx="7467480" cy="4494240"/>
          </a:xfrm>
        </p:grpSpPr>
        <p:graphicFrame>
          <p:nvGraphicFramePr>
            <p:cNvPr id="297" name=""/>
            <p:cNvGraphicFramePr/>
            <p:nvPr/>
          </p:nvGraphicFramePr>
          <p:xfrm>
            <a:off x="914400" y="1677960"/>
            <a:ext cx="7467480" cy="44942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9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14400" y="1677960"/>
                      <a:ext cx="7467480" cy="449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9" name=""/>
            <p:cNvSpPr/>
            <p:nvPr/>
          </p:nvSpPr>
          <p:spPr>
            <a:xfrm>
              <a:off x="2820960" y="373392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S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B3A1-A959-4410-A7C4-E1AAA251BBC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CPO catches of yellowfin tuna. Dashed line represent MSY from 2006 stock assessment (Source SPC-OF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066680" y="1828800"/>
          <a:ext cx="7086600" cy="464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7086600" cy="46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112C-1310-4E34-A8D8-5DB69B4106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waii Fresh Fish Longline Fisher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3"/>
          <p:cNvSpPr/>
          <p:nvPr/>
        </p:nvSpPr>
        <p:spPr>
          <a:xfrm>
            <a:off x="0" y="104472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al characteristics that could be considered when developing management options for bigeye targeting longline fisheries in the Hawaii fish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eye is the target species and is the revenue driver for the fishery and generates approximately 60% ex-vessel rev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.S. longline fisheries most species are retained and sold and contribute to the economic viability of the fishery. Main discards are lancet fish and blue shar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sh fish markets require consistent supply requiring compatible management reg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325B-AC97-4454-8E4F-153913DF94C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waii Fresh Fish Longline Fishe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 costs are comparatively high as trips are short, with travel and port days reducing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longline fishery is characterized by relatively low volumes of high value landings. Honolulu ranks low volume-wise in the US fish port landings, but is 4th in terms of landed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domestic market relies almost entirely on the Hawaii longline fishery bigeye cat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bigeye tuna is extremely important both economically and culturally to the Hawaii commun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F4EC-44C0-4A63-98DC-EC553073AF5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waii longline fishery: fleet characteristics and management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mited entry program, maximum fleet size of 164 vessels, current fleet size since 1992 fleet has been stable at around 120-125 vess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shery has maximum size limit of 101 ft. Average size 70 ft and size range of 42 -98ft in leng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books and observers are mandatory, with 20% observer coverage in tuna fleet, 100% in swordfish fle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0-75-nm longline area closure around entire Hawaii (25% of EEZs), Archipelago to minimize protected species interactions and interactions and competition with small vessel troll and handline fle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MS mandatory on all Hawaii longline vess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these measures pre-date the FAO Code of Conduct For Responsible Fishe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5FD3-A516-4377-BEA9-1B58876945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waii longline fishery: fleet characteristics and management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ycatch mitigation measures for turtles (circle hooks, mackerel type bait, de-hookers, turtle handling requirements) and seabirds (weighted hooks, line shooters, blue dyed bait, night setting for swordfish boats). Measures apply &gt; 23 deg N lat for tuna vessels and at all latitudes for swordfish vesse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ordfish fishery constrained by effort (50% of 1994-1999 average = 2240 sets) with set certificates, plus hard caps on leatherback (16) and loggerhead (17) turtl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ep setting is defined in regulations, with minimum number of hooks between floats and minimum (20 m) float line lengths and minimum depth of sag, plus no light-sticks, plus cap (10) on swordfish reten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nual protected species certification required for vessel owners and opera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landings of shark fins without carcasses, or fins must be 5% of landed total shark wei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CG boards about 30% of fleet annually for at sea insp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A1CE-A4AE-487C-8C8F-EB7F6A4C27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waii longline fishery fleet size. Note relative stability since 199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rcRect l="0" t="0" r="0" b="3029"/>
          <a:stretch/>
        </p:blipFill>
        <p:spPr>
          <a:xfrm>
            <a:off x="228600" y="2133720"/>
            <a:ext cx="830592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04C0-1CF4-4CD2-8561-B115936C56C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fishery has increased hooks set over time, but with major increase following swordfish closure in 2001 and, more recently increasing fuel cost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Source: NMFS-PIFSC &amp; WPac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685800" y="1828800"/>
          <a:ext cx="7924680" cy="4692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28800"/>
                    <a:ext cx="7924680" cy="469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0EE3-D0DD-43BF-8DBA-12A72610D99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0:41:39Z</dcterms:created>
  <dc:creator>Paul Dalzell</dc:creator>
  <dc:description/>
  <dc:language>en-US</dc:language>
  <cp:lastModifiedBy>LaptopAccount</cp:lastModifiedBy>
  <dcterms:modified xsi:type="dcterms:W3CDTF">2008-03-28T22:39:00Z</dcterms:modified>
  <cp:revision>22</cp:revision>
  <dc:subject/>
  <dc:title>Bigeye tuna: the Hawaii longline perspective</dc:title>
</cp:coreProperties>
</file>